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F6E-E374-4041-9F5E-74C8B968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64F-E375-49B7-8A4E-028B96B8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A3C-F0C2-491E-9BE4-4683EACF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569-9CD6-4F4C-BE49-7F266007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FD5-F1C6-4CF7-934E-3A8046F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8F2-09C5-4495-ABD7-D2CA4B8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928-76D7-46C1-A644-2070284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2EA-EF87-479C-99A2-F5977900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335-4905-438C-8155-26112B7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8D8-7845-4B9F-A265-7096B3B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4A5-907B-476C-AEEB-62F0572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B4B-3FA2-48D2-99BB-5CD3765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C249-FE0D-456C-8377-8965973C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tes.aip3.ogcnetwork.net/home/home/air-quality-health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IP-3 Update</a:t>
            </a:r>
            <a:br>
              <a:rPr sz="29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aip3.ogcnetwork.net/home/home/air-quality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Google Earth Interpolation.png"/>
          <p:cNvPicPr/>
          <p:nvPr/>
        </p:nvPicPr>
        <p:blipFill>
          <a:blip r:embed="rId2"/>
          <a:stretch/>
        </p:blipFill>
        <p:spPr>
          <a:xfrm>
            <a:off x="609480" y="44197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PULSENet Client Interpolation.png"/>
          <p:cNvPicPr/>
          <p:nvPr/>
        </p:nvPicPr>
        <p:blipFill>
          <a:blip r:embed="rId3"/>
          <a:stretch/>
        </p:blipFill>
        <p:spPr>
          <a:xfrm>
            <a:off x="1828800" y="5181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Bild 4" descr=""/>
          <p:cNvPicPr/>
          <p:nvPr/>
        </p:nvPicPr>
        <p:blipFill>
          <a:blip r:embed="rId4"/>
          <a:srcRect l="8501" t="3386" r="12027" b="0"/>
          <a:stretch/>
        </p:blipFill>
        <p:spPr>
          <a:xfrm>
            <a:off x="609480" y="203688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Bild 7" descr=""/>
          <p:cNvPicPr/>
          <p:nvPr/>
        </p:nvPicPr>
        <p:blipFill>
          <a:blip r:embed="rId5"/>
          <a:srcRect l="8501" t="2489" r="9622" b="0"/>
          <a:stretch/>
        </p:blipFill>
        <p:spPr>
          <a:xfrm>
            <a:off x="2286000" y="2798640"/>
            <a:ext cx="2209680" cy="1468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9907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OGC Sensor Observation Services, web processing services (spatial interpolation of point measurement data).  No changes made to AQ Community Infrastructure developed during AIP-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876920" y="480060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ing INTAMAP WPS Spatial Interpolation Output in the PULSENet Client and Google Earth for North American PM2.5 concentration measu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876920" y="22860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ing INTAMAP WPS Spatial Interpolation Output in the AGUILA Client showing the first quartile (A) and the cumulative probability of 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B) for European NO2 concentration measu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05:50Z</dcterms:created>
  <dc:creator>sf</dc:creator>
  <dc:description/>
  <dc:language>en-US</dc:language>
  <cp:lastModifiedBy>sf</cp:lastModifiedBy>
  <dcterms:modified xsi:type="dcterms:W3CDTF">2011-01-05T17:22:29Z</dcterms:modified>
  <cp:revision>1</cp:revision>
  <dc:subject/>
  <dc:title>AIP-3 Update http://sites.aip3.ogcnetwork.net/home/home/air-quality-health</dc:title>
</cp:coreProperties>
</file>